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1912-008B-48F3-9EA3-36E0380ED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565D-1CC0-4F20-AB9F-5D7E0AECA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780F-3784-4B11-BE25-C498A7076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F65D-7C3C-4388-B456-E17685A66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563B-01EF-4AAF-8590-3D94B1B04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FFCB-0597-4EEF-9BD2-6250E92A9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95E3-6BA7-463B-8520-69C10D3B6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9EB2-06AD-458E-83DD-B765EEBB2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858E-4C64-4B18-943A-6D1A3ADB4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6345-19F4-426C-87A6-5C66351F3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C6CD-B1CD-4E1C-8A6B-7FAD40FC0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78CF3-DB6F-49E4-9EDC-FD65276B7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5236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50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7232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18920" y="1800000"/>
            <a:ext cx="795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7640"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92400" indent="-287280"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92400" indent="-287280"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92400" indent="-287280"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80520" y="6570720"/>
            <a:ext cx="3603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4FED-E5E8-4967-A6BD-54E4749D23DD}" type="slidenum">
              <a:rPr b="0" lang="en-US" sz="9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268280" cy="74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236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7640" y="1798560"/>
            <a:ext cx="7558200" cy="362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6360" algn="ctr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5440" algn="ctr">
              <a:buClr>
                <a:srgbClr val="ff00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76320" algn="ctr">
              <a:buClr>
                <a:srgbClr val="ff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7632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7632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2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4.wmf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5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252360" cy="6873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440" y="3032280"/>
            <a:ext cx="89154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P GTS at Henk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10 ICPA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Th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 – Global Trade, Ame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kel of America,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62240" y="860400"/>
            <a:ext cx="2971800" cy="1782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96080" y="252360"/>
            <a:ext cx="144792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9528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2CDB-0749-4951-BDC2-D78E9374681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7232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nkel AG &amp; Co. KGa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8920" y="1800000"/>
            <a:ext cx="795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kel AG &amp; Co. KGaA is a global company headquartered in Düsseldorf,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2,000 employees in over a 100 coun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 Billion Euro in Annual S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Main Business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hesives, Sealants and Surface Treat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metics and Personal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8, we purchased National Adhesives from Akzo Nob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178E-1D07-4A58-9139-261643DDF9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7232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nkel of America, Inc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218960"/>
            <a:ext cx="79567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kel of America has three business units in North America connected to SAP GTS, version 7.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kel Corporation (Adhesives and Electroni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and Consumer business of Adhesives, Sealants and Surface Trea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l Corporation (Laundry and Home Ca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and Personal Car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warzkopf and Henkel, Inc. (Cosmeti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Hair Car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3311640"/>
            <a:ext cx="1219320" cy="241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38480" y="3311640"/>
            <a:ext cx="716040" cy="32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743200" y="3119400"/>
            <a:ext cx="1000080" cy="64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782880" y="4564080"/>
            <a:ext cx="757440" cy="674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743200" y="4624560"/>
            <a:ext cx="614520" cy="590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600200" y="4624560"/>
            <a:ext cx="790560" cy="61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971960" y="4648320"/>
            <a:ext cx="1162080" cy="581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2971800" y="6040440"/>
            <a:ext cx="771480" cy="56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895560" y="6062760"/>
            <a:ext cx="1248120" cy="523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5257800" y="5951520"/>
            <a:ext cx="900000" cy="74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6253200" y="6024600"/>
            <a:ext cx="1247760" cy="60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1600200" y="6083280"/>
            <a:ext cx="1171440" cy="571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6157800" y="4564080"/>
            <a:ext cx="1285920" cy="733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7165800" y="3206880"/>
            <a:ext cx="606600" cy="560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4971960" y="3255840"/>
            <a:ext cx="901800" cy="382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6157800" y="3200400"/>
            <a:ext cx="911160" cy="56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6BC9-9D4D-471B-BD99-21F40522AB2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7232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nkel of America, Inc.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8920" y="1371240"/>
            <a:ext cx="7956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usiness Unit is on its own SAP Ser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hesives (Americas P62, Europe P1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s Global (P7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metics Global (P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undry and Home Care (Americas P60, Europe P0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North America, Henkel has three SAP R/3 systems attached to GTS, with a fourth to be added in Ma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ly Henkel has six (6) R/3 systems connected to GTS.  Our GTS server is located at our corporate headquarters in Düsseldorf,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6D84-B6EB-4E55-8AEA-F88D538763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7232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TS at Henkel System Landscap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731960"/>
            <a:ext cx="3384720" cy="3209760"/>
          </a:xfrm>
          <a:prstGeom prst="rect">
            <a:avLst/>
          </a:prstGeom>
          <a:gradFill rotWithShape="0">
            <a:gsLst>
              <a:gs pos="0">
                <a:srgbClr val="eff1f1"/>
              </a:gs>
              <a:gs pos="100000">
                <a:srgbClr val="d7de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4120" y="1731960"/>
            <a:ext cx="3251160" cy="3209760"/>
          </a:xfrm>
          <a:prstGeom prst="rect">
            <a:avLst/>
          </a:prstGeom>
          <a:gradFill rotWithShape="0">
            <a:gsLst>
              <a:gs pos="0">
                <a:srgbClr val="eff1f1"/>
              </a:gs>
              <a:gs pos="100000">
                <a:srgbClr val="d7de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84360" y="1731960"/>
            <a:ext cx="1150920" cy="689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1957320" y="4276800"/>
            <a:ext cx="76212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85840" y="3675240"/>
            <a:ext cx="1266840" cy="93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52760" y="3921120"/>
            <a:ext cx="433440" cy="2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62120" y="40600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780000" y="3429000"/>
            <a:ext cx="1633320" cy="1176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371840" y="3757680"/>
            <a:ext cx="559080" cy="307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75080" y="393372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087640" y="2585880"/>
            <a:ext cx="1266840" cy="936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556000" y="2836800"/>
            <a:ext cx="433440" cy="246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63920" y="29710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06600" y="2995560"/>
            <a:ext cx="1266480" cy="93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074600" y="3246480"/>
            <a:ext cx="433440" cy="245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82520" y="33807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75200" y="2557440"/>
            <a:ext cx="1266840" cy="93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343560" y="2808360"/>
            <a:ext cx="433440" cy="245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351480" y="29426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5875200" y="3757680"/>
            <a:ext cx="126684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6343560" y="4008600"/>
            <a:ext cx="433440" cy="2458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351480" y="414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573360"/>
            <a:ext cx="792000" cy="360360"/>
          </a:xfrm>
          <a:prstGeom prst="line">
            <a:avLst/>
          </a:prstGeom>
          <a:ln cap="rnd"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4"/>
          <a:stretch/>
        </p:blipFill>
        <p:spPr>
          <a:xfrm>
            <a:off x="5592600" y="1733400"/>
            <a:ext cx="1152720" cy="68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7416720" y="2995560"/>
            <a:ext cx="126684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6"/>
          <a:stretch/>
        </p:blipFill>
        <p:spPr>
          <a:xfrm>
            <a:off x="7885080" y="3246480"/>
            <a:ext cx="433440" cy="24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893000" y="33807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294160" y="3501720"/>
            <a:ext cx="862200" cy="360360"/>
          </a:xfrm>
          <a:prstGeom prst="line">
            <a:avLst/>
          </a:prstGeom>
          <a:ln cap="rnd"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1A96-F545-4D2A-BA6B-A66565EC8A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7232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P GTS at Henk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9567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kel has activated the following modules in SAP G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iance Management (went live 1 April 200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ense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7640">
              <a:buClr>
                <a:srgbClr val="ff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7640">
              <a:buClr>
                <a:srgbClr val="ff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s Management (went live 1 April 200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dity Code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7640">
              <a:buClr>
                <a:srgbClr val="ff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S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87640">
              <a:buClr>
                <a:srgbClr val="ff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Schedule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erence Management (went live 1 November 200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FTA for US and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AD014-B425-45D6-9E9A-BBDEF24D1D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7232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P GTS at Henkel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8920" y="1371240"/>
            <a:ext cx="79563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GTS processes are centralized both globally and reg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egion (Americas and Western Europe) has its own GT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 B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 Blocks released centrally in the 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S Numbers are classified globally on the six (6) digi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ericas GT Group classifies to the 10 digit level for all BU’s in that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 &amp; ITA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lnSpc>
                <a:spcPct val="90000"/>
              </a:lnSpc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ericas GT group classifies all products for both legal regulation and maintains licenses in the GT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F4DF-52CD-4902-B190-2D2B01B470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7232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rrent GTS Projec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956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S is part of the Customs Management mod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currently in development and programming stages of implementing this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using both an external consulting firm and internal IT resources for this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on using Customer Service being trigger for AES for most locations, shipping will be trigger for warehou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line for project completion is early 3Q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grade to GTS 8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ments to Preference Module (NAF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Re-Export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line for completion is early 3Q 201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ourcing SPL Releases and Preference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on moving to SSC in Manila in 4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value added activities moved off shore to reduce costs and focus on value add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A888-AB94-451F-B270-415705B04D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539640"/>
            <a:ext cx="72327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ster Data and G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18920" y="1295280"/>
            <a:ext cx="795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urate Master Data is Criti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ing business partner information for every order causing a block on every order for the same 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erence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BOM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procurement indicators or totally inaccurate (mixed procu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8728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 country of 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nformation in incorrec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riding business partn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-285840"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domestic addresses for export shipments where AES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1F8C-5D11-4531-B9FB-56703B6E36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4:20:40Z</dcterms:created>
  <dc:creator>oloskym</dc:creator>
  <dc:description>U-T, Standard with Sublogo;ABLAF, english version 1.3.1
</dc:description>
  <dc:language>en-US</dc:language>
  <cp:lastModifiedBy>thomasd</cp:lastModifiedBy>
  <cp:lastPrinted>2002-02-12T10:51:21Z</cp:lastPrinted>
  <dcterms:modified xsi:type="dcterms:W3CDTF">2010-03-01T16:19:25Z</dcterms:modified>
  <cp:revision>4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teilung">
    <vt:lpwstr>Abteilung</vt:lpwstr>
  </property>
  <property fmtid="{D5CDD505-2E9C-101B-9397-08002B2CF9AE}" pid="3" name="LogoZeile1">
    <vt:lpwstr>Corporate</vt:lpwstr>
  </property>
  <property fmtid="{D5CDD505-2E9C-101B-9397-08002B2CF9AE}" pid="4" name="LogoZeile2">
    <vt:lpwstr>Communications</vt:lpwstr>
  </property>
</Properties>
</file>